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pct" ContentType="image/x-pict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DDD-B34E-48AA-A84F-CC23F4EF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5467-D1AF-4D3E-B16E-6E97A6CE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622-FB44-4324-9BDE-0B8F4A3F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79CD-A9BE-4420-A4BC-717DB24A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D00-967A-440D-A107-EF5D9F69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86F-70D9-4AF9-BCF8-3CD21E52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490-8D82-45AA-86B6-CC68B57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6A9-99E0-40C7-817C-4D07ADD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2FF-54DA-4117-8AA3-30579E7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01E8-8558-4B3F-82F5-7192E0A6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DBD-875C-4E93-B8C4-A539679C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1B58-6F43-4D9A-86C7-0CBD8F61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19440" y="0"/>
            <a:ext cx="91630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39612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1016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2"/>
          <p:cNvSpPr/>
          <p:nvPr/>
        </p:nvSpPr>
        <p:spPr>
          <a:xfrm>
            <a:off x="3240" y="0"/>
            <a:ext cx="9140760" cy="1600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ELECTRONIC COMMUNI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467ab"/>
                </a:solidFill>
                <a:latin typeface="Verdana"/>
              </a:rPr>
              <a:t>A SYSTE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5154840" y="297180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0132988631b.jpg"/>
          <p:cNvPicPr/>
          <p:nvPr/>
        </p:nvPicPr>
        <p:blipFill>
          <a:blip r:embed="rId4"/>
          <a:stretch/>
        </p:blipFill>
        <p:spPr>
          <a:xfrm>
            <a:off x="609480" y="1905120"/>
            <a:ext cx="32162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808080">
                <a:alpha val="75000"/>
              </a:srgbClr>
            </a:outerShdw>
          </a:effectLst>
        </p:spPr>
      </p:pic>
      <p:sp>
        <p:nvSpPr>
          <p:cNvPr id="50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-9360" y="6400800"/>
            <a:ext cx="9153360" cy="4572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earson_Bound_White"/>
          <p:cNvPicPr/>
          <p:nvPr/>
        </p:nvPicPr>
        <p:blipFill>
          <a:blip r:embed="rId2"/>
          <a:stretch/>
        </p:blipFill>
        <p:spPr>
          <a:xfrm>
            <a:off x="7621560" y="6400800"/>
            <a:ext cx="153360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Pearson_Strap_Bound_White"/>
          <p:cNvPicPr/>
          <p:nvPr/>
        </p:nvPicPr>
        <p:blipFill>
          <a:blip r:embed="rId3"/>
          <a:stretch/>
        </p:blipFill>
        <p:spPr>
          <a:xfrm>
            <a:off x="-3240" y="6400800"/>
            <a:ext cx="1766880" cy="4572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7"/>
          <p:cNvSpPr/>
          <p:nvPr/>
        </p:nvSpPr>
        <p:spPr>
          <a:xfrm>
            <a:off x="1600200" y="6400800"/>
            <a:ext cx="562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ffffff"/>
                </a:solidFill>
                <a:latin typeface="Verdana"/>
              </a:rPr>
              <a:t>Electronic Communications: A Systems Approac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Beasley | Hymer | Mill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7"/>
          <p:cNvSpPr/>
          <p:nvPr/>
        </p:nvSpPr>
        <p:spPr>
          <a:xfrm>
            <a:off x="4495680" y="64008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Copyright © 2014 by Pearson Education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51"/>
              </a:spcBef>
              <a:buClr>
                <a:srgbClr val="b2d2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51"/>
              </a:spcBef>
              <a:buClr>
                <a:srgbClr val="119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51"/>
              </a:spcBef>
              <a:buClr>
                <a:srgbClr val="b2d233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51"/>
              </a:spcBef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74A2-70E9-4677-B897-01CC5DA2CC4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8B06-F01C-4871-A29C-2B88E2395A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5029200" y="3809880"/>
            <a:ext cx="38098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Fundamental Communications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6736320" y="255888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ecibel as a Power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electronics, decibel is defined as a power rati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Decibel as a Voltage or Current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s and currents expressed as decibel relationships provided input and output impedances taken into accou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ence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 itself, the decibel has no absolute value; they represent ratios of powers, voltages, or curre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ecibel measurements with explicit or implied reference can be expressed in terms of absolute val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proximating with Decib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ue utility of decibels is their ability to provide quick approxim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Table 1-2: Common Decibel Relationshi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308592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Table 1-2: Common Decibel Relationships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Picture 5" descr="tab01_02.jpg"/>
          <p:cNvPicPr/>
          <p:nvPr/>
        </p:nvPicPr>
        <p:blipFill>
          <a:blip r:embed="rId1"/>
          <a:stretch/>
        </p:blipFill>
        <p:spPr>
          <a:xfrm>
            <a:off x="2209680" y="228600"/>
            <a:ext cx="4773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ge Gains and Los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bel relationships useful for determining gains (or losses) through pieces of equipment with multiple stag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s frequency range over which a circuit or system oper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r the bandwidth, greater the amount of information transfer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rtley’s la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formation transmitted directly proportional to product of bandwidth used and time of transmiss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-frequency spectrum is a scarce and valuable public resour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derstanding Frequency Spect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ocations on spectrum of all frequencies produced as the result of modulation are what determine bandwidth of the modulated signal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ier: developed means to break down periodic waveforms into a series of sine and/or cosine waves at multiples of the fundamental frequ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 and Frequency-Domain Represen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me do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aveform amplitude as a function of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scilloscope is a time-domain repres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me- and Frequency-Domain Represent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dom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plitude viewed as function of frequency rather than of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trum analy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gnals in frequency doma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Systems and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unction of any communication system is to transfer information from one point to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ystems consist of three element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mitt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ei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nn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 and Bandwidth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ast Fourier Transfor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version from time to frequency domain  approximated with fast Fourier transform (FF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orithm suited to computer-based implement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allows for large number of calculations to be reduced to a manageable number through elimination of redundanc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man-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d by electronic or mechanical devices operating in proximity to communications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mospher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used by natural phenomena occurring either within Earth’s atmosphere or in outer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rives from outer sp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ult of thermal interactions between free electrons and vibrating ions in a conduc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is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t noise results from currents flowing within emitter-base/collector-base diod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Noi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noise eff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w-frequency effect (exces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-frequency noise (transit-tim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gnal-to-Noise Rat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sure of desired signal power to noise pow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Fig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fies exactly how noisy a device i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ctance Noise Eff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circuits do limit frequency response; significant effect on noise characteristic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ise Created by Amplifiers in Cascad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iss’s formu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all noise effect of multistage syst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quivalent Noise Tempera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ans of representing noise produced at output of real-world device or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ise generated by resistor placed at input to  noiseless amplifier with the same gain as device or system under consid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Noise Designation and Calcul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quivalent Noise Resi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s represent noise generated by a device with a fictitious resistanc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roubleshooting Techniq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k the right ques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ke time to learn test equipment, its capabilities, and limit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clear, up-to-date records of all changes made to equip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lace suspicious unit with known good o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ot a game plan or strateg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Systems and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essing low-frequency voltages (information) onto high-frequency signal (carrier) for transmiss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modulation or det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covering (separating) information from the high frequency carri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asons Electronic Circuits Fa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lete fail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mittent fa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ystem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uced fail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roubleshoot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ubleshooting Pl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mptoms as clues to faulty st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gnal tracing and signal inj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tage and resistance measu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unications Systems and Modu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riers often sine waves; amplitude, frequency, and phase are the only characteristics of a sine-wave carrier that can be modifi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etic fields surround moving electric charges (currents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ic and magnetic fields both result from voltage potentials and current flow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ic and magnetic fields form at right angles to each other and at right angles to direction of trave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itudes of both electric and magnetic fields are consta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duc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verts energ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tire range of signals occupying all frequenc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udio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be heard by human 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dio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bove 50 kHz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mission of sign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reless/physical med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Electromagnetic Spectr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ions systems limited by two factor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ndwid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i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19440" y="0"/>
            <a:ext cx="9163080" cy="1371600"/>
          </a:xfrm>
          <a:prstGeom prst="rect">
            <a:avLst/>
          </a:prstGeom>
          <a:solidFill>
            <a:srgbClr val="214c90"/>
          </a:solidFill>
          <a:ln w="9360">
            <a:solidFill>
              <a:srgbClr val="214c9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The Decibel in Communications Work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214c9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garith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bel (d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it of sound intensity; ratios related to sound pressure level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garithms are expon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191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logarithm (antilo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649"/>
              </a:spcBef>
              <a:buClr>
                <a:srgbClr val="b2d2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e raised to that numb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12:47:34Z</dcterms:created>
  <dc:creator>Thomas Dunn</dc:creator>
  <dc:description/>
  <dc:language>en-US</dc:language>
  <cp:lastModifiedBy>James Ramsey</cp:lastModifiedBy>
  <dcterms:modified xsi:type="dcterms:W3CDTF">2013-05-08T17:11:37Z</dcterms:modified>
  <cp:revision>2</cp:revision>
  <dc:subject/>
  <dc:title>Slide 1</dc:title>
</cp:coreProperties>
</file>